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BC5D-B763-4E5E-B830-A35A8851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75DD-74B9-42C6-B616-40BB0B83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93CC-A252-4D09-86CB-122946C7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A457-F07A-4BB0-933E-675E0FEBF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C9CF-4073-4FE7-83B7-7C73E26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834-6704-48C0-983D-DFACB119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F61B-1946-440B-B2B8-8B20E38F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B9B-670D-447C-A2D4-20E91409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6F4-CBC7-4BDE-876B-A56FF9AF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88F2-D77D-4A7A-870E-E942BC14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EBD-39BB-498A-A987-4A821293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24C-F9DE-4E2D-921A-E22E7A8A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65B7-8CA0-4E59-BF44-B8E531EE6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peedofcreativity.org/2007/05/13/teaching-in-may-the-best-of-days-the-worst-of-days/" TargetMode="External"/><Relationship Id="rId3" Type="http://schemas.openxmlformats.org/officeDocument/2006/relationships/hyperlink" Target="http://bobsprankle.com/bitbybit_wordpress/" TargetMode="External"/><Relationship Id="rId4" Type="http://schemas.openxmlformats.org/officeDocument/2006/relationships/hyperlink" Target="http://free-esl.com/forum/viewtopic.php?f=5&amp;t=20" TargetMode="External"/><Relationship Id="rId5" Type="http://schemas.openxmlformats.org/officeDocument/2006/relationships/hyperlink" Target="http://teacherweb.com/tx/cypressfalls/stringer/photo5.stm" TargetMode="External"/><Relationship Id="rId6" Type="http://schemas.openxmlformats.org/officeDocument/2006/relationships/hyperlink" Target="http://teacherweb.com/tx/cypressfalls/stringer/photo5.stm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3" name=""/>
          <p:cNvSpPr/>
          <p:nvPr/>
        </p:nvSpPr>
        <p:spPr>
          <a:xfrm>
            <a:off x="228600" y="380880"/>
            <a:ext cx="35812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omic Sans MS"/>
              </a:rPr>
              <a:t>To Wiki or Not to Wiki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Reasons to Blog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6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uthentic learning experie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tivates and engages stud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wr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er intera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munication with par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motes literacy skil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2590920" y="1066680"/>
            <a:ext cx="60195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uture ain’t what it used to b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gi B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important thing is not to stop questioning.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lbert Ei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7848720" y="57150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20460" y="10800"/>
                </a:moveTo>
                <a:lnTo>
                  <a:pt x="9955" y="17806"/>
                </a:lnTo>
                <a:lnTo>
                  <a:pt x="9955" y="3794"/>
                </a:lnTo>
                <a:close/>
              </a:path>
              <a:path fill="darken" w="33922" h="21600">
                <a:moveTo>
                  <a:pt x="22305" y="3794"/>
                </a:moveTo>
                <a:lnTo>
                  <a:pt x="22305" y="17806"/>
                </a:lnTo>
                <a:lnTo>
                  <a:pt x="23968" y="17806"/>
                </a:lnTo>
                <a:lnTo>
                  <a:pt x="23968" y="3794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>
            <a:hlinkClick r:id="" action="ppaction://hlinkshowjump?jump=nextslide"/>
          </p:cNvPr>
          <p:cNvSpPr/>
          <p:nvPr/>
        </p:nvSpPr>
        <p:spPr>
          <a:xfrm>
            <a:off x="7772400" y="54864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3794"/>
                </a:moveTo>
                <a:lnTo>
                  <a:pt x="21855" y="10800"/>
                </a:lnTo>
                <a:lnTo>
                  <a:pt x="7842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848720" y="51055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3794"/>
                </a:moveTo>
                <a:lnTo>
                  <a:pt x="23979" y="10800"/>
                </a:lnTo>
                <a:lnTo>
                  <a:pt x="9966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7238880" y="54100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3794"/>
                </a:moveTo>
                <a:lnTo>
                  <a:pt x="23197" y="10800"/>
                </a:lnTo>
                <a:lnTo>
                  <a:pt x="918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20120" y="54864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001000" y="57150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3124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log is a we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b log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.  It can take the form of an online journal or diary, or it can   be discussion-oriented and interactive.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838080"/>
            <a:ext cx="8686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at is a wiki / blo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ikis and Blogs…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administered by a single aut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clude short entries or posting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y link to docu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vide opportunities for respon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nerally public, but can be set to be accessed with passwor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till not convinced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easons we give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 don’t have time…I’m already overloaded with work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is just a passing fad.  Why should I start using blogs and wikis when they will be obsolete in just a few yea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601992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’m afraid of the security issues.  I want to keep my students safe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I don’t have the technology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kills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Computers don’t like me.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"/>
          <p:cNvSpPr/>
          <p:nvPr/>
        </p:nvSpPr>
        <p:spPr>
          <a:xfrm>
            <a:off x="1608480" y="609480"/>
            <a:ext cx="60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More excuses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228600" y="0"/>
            <a:ext cx="9372600" cy="7032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Why use wikis/blogs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pecial software or skill requir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vailable anywhere, any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nects parents and students with teacher and cont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udents have ownership and access beyond the school set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fe:  Teachers can add password and membership restri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ds learning beyond the school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echnology is FU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94360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89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CON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tra tim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ch support is neede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anges teaching sty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590920" y="5943600"/>
            <a:ext cx="594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Amber Teamann, Engage and Motivate Your Students with an Educational Blo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31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Teacher blog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8280" y="129528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tent-related blog as a professional practi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2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3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tworking and knowledge sha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4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structional tips for student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Comic Sans MS"/>
                <a:hlinkClick r:id="rId5"/>
              </a:rPr>
              <a:t>Example site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omic Sans MS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urse announcements and rea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notated li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6248520"/>
            <a:ext cx="502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http://awd.cl.uh.edu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Student blog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337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flective or writing journa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nowledge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ignment submission and review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ogue for group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si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-portfolio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 resou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/>
          <p:nvPr/>
        </p:nvSpPr>
        <p:spPr>
          <a:xfrm>
            <a:off x="3352680" y="5867280"/>
            <a:ext cx="3353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 http://awd.cl.uh.edu/blog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18:05:59Z</dcterms:created>
  <dc:creator>cyfair</dc:creator>
  <dc:description/>
  <dc:language>en-US</dc:language>
  <cp:lastModifiedBy>cyfair</cp:lastModifiedBy>
  <dcterms:modified xsi:type="dcterms:W3CDTF">2008-02-20T18:46:12Z</dcterms:modified>
  <cp:revision>12</cp:revision>
  <dc:subject/>
  <dc:title>A blog is a web log.  It can take the form of an online journal or diary, or it can be discussion-oriented and interactive.   </dc:title>
</cp:coreProperties>
</file>